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5.wmf" ContentType="image/x-wmf"/>
  <Override PartName="/ppt/media/image24.jpeg" ContentType="image/jpeg"/>
  <Override PartName="/ppt/media/image9.wmf" ContentType="image/x-wmf"/>
  <Override PartName="/ppt/media/image6.wmf" ContentType="image/x-wmf"/>
  <Override PartName="/ppt/media/image31.wmf" ContentType="image/x-wmf"/>
  <Override PartName="/ppt/media/image19.jpeg" ContentType="image/jpe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30.wmf" ContentType="image/x-wmf"/>
  <Override PartName="/ppt/media/image3.png" ContentType="image/pn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3.wmf" ContentType="image/x-wmf"/>
  <Override PartName="/ppt/media/image17.gif" ContentType="image/gif"/>
  <Override PartName="/ppt/media/image21.wmf" ContentType="image/x-wmf"/>
  <Override PartName="/ppt/media/image22.wmf" ContentType="image/x-wmf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CFBE-3C8D-432D-814E-21410C70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68C-29F6-468B-8493-921BD358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578-9584-4C01-AA75-E17A3F6D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2CA-0A84-4F38-933F-BFB5A5490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F14B-2404-4C10-835E-3944EB1A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4D7-A504-433B-844C-CF85CFCF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69A3-90E8-42E5-BEFC-80019F9F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7262-2655-4CFD-A0EE-47A7F2D5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588-829C-493D-A4D4-B304A9E1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74E2-C562-4C59-9006-C0850B7B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4F93-6D6A-492A-8E6C-45626B55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5D67-653F-40EB-BCD0-41ABDF87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98AE-55D6-4F9E-82CC-A016BF8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5BDD-8991-47B1-86BE-F35ACB07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E3A8-ED99-447F-A7D2-7FC76B13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8857-73C0-4B8C-83A9-A15B95E5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2803-425C-4644-9DE9-A2B902A24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0D6A-3CEC-483E-9F5D-5D0672B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A15-8CA4-4D91-B876-0707EF57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CFF-2474-48BF-AC69-D0C25751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9F3-D99F-45DA-ACBD-D4D89109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9AA-B504-4A99-B713-CB3B7E17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B75-46A3-446A-878F-9C81CC5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6BC-74EE-49B0-B038-EB3B2E3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98FB-590F-42B9-BA11-94447DC237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4A94-D878-445B-8190-DC6A7849084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609480"/>
            <a:ext cx="74674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PUBLICA BOLIVARIANA DE VENEZUE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UNIVERSIDAD NACIONAL EXPERIMENTAL SIMÓN RODRÍGUE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CANATO DE POSTGR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UCLEO REGIONAL POSTGRADO CARA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62520" y="152280"/>
          <a:ext cx="8380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152280"/>
                    <a:ext cx="838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0" y="25290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28195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6600" spc="-1" strike="noStrike">
                <a:solidFill>
                  <a:srgbClr val="ffffff"/>
                </a:solidFill>
                <a:latin typeface="comic"/>
              </a:rPr>
              <a:t>LA EMPRESA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594640" y="453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0880" y="5678640"/>
            <a:ext cx="357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rof. Carmen Echevar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352680" y="-46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3200" spc="-1" strike="noStrike">
                <a:solidFill>
                  <a:srgbClr val="ffcc66"/>
                </a:solidFill>
                <a:latin typeface="comic"/>
              </a:rPr>
              <a:t>.....VI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91120" y="819000"/>
            <a:ext cx="2916360" cy="13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cc66"/>
                </a:solidFill>
                <a:uFillTx/>
                <a:latin typeface="Arial Narrow"/>
              </a:rPr>
              <a:t>IDEOLOGÍA</a:t>
            </a:r>
            <a:r>
              <a:rPr b="1" lang="es-VE" sz="2400" spc="-1" strike="noStrike" u="sng">
                <a:solidFill>
                  <a:srgbClr val="ffff00"/>
                </a:solidFill>
                <a:uFillTx/>
                <a:latin typeface="Arial Narrow"/>
              </a:rPr>
              <a:t> </a:t>
            </a:r>
            <a:r>
              <a:rPr b="1" lang="es-VE" sz="2400" spc="-1" strike="noStrike" u="sng">
                <a:solidFill>
                  <a:srgbClr val="ffcc66"/>
                </a:solidFill>
                <a:uFillTx/>
                <a:latin typeface="Arial Narrow"/>
              </a:rPr>
              <a:t>BÁ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¿Por qué? y ¿Para qué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Ser y Hac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i="1" lang="es-VE" sz="2400" spc="-1" strike="noStrike">
                <a:solidFill>
                  <a:srgbClr val="ffcc66"/>
                </a:solidFill>
                <a:latin typeface="Arial Narrow"/>
              </a:rPr>
              <a:t>la parte inalterable</a:t>
            </a: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160" y="4356000"/>
            <a:ext cx="36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¿ quién define la visión?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4680" y="4356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¿ Cómo se define la visión?</a:t>
            </a: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320" y="5076720"/>
            <a:ext cx="43434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 concebida por los líderes y la alta dirección con ideas y opiniones  de colaboradores en nivel gerencial y operativ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1295280"/>
            <a:ext cx="1752480" cy="304920"/>
          </a:xfrm>
          <a:prstGeom prst="leftRightArrow">
            <a:avLst>
              <a:gd name="adj1" fmla="val 50000"/>
              <a:gd name="adj2" fmla="val 114415"/>
            </a:avLst>
          </a:prstGeom>
          <a:solidFill>
            <a:srgbClr val="ffcc66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4440" y="812880"/>
            <a:ext cx="32623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cc66"/>
                </a:solidFill>
                <a:uFillTx/>
                <a:latin typeface="Arial Narrow"/>
              </a:rPr>
              <a:t>VISIÓN DE FU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Hacia ¿dónde queremos i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Cuánto es la brecha 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el presente y el fu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ffcc66"/>
                </a:solidFill>
                <a:latin typeface="Arial Narrow"/>
              </a:rPr>
              <a:t>(la parte cambiante</a:t>
            </a: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95280" y="9144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ffcc66"/>
                </a:solidFill>
                <a:latin typeface="Arial Narrow"/>
              </a:rPr>
              <a:t>ele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48320" y="5029200"/>
            <a:ext cx="441936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Arial Narrow"/>
              </a:rPr>
              <a:t>A través de un proceso de desarrollo de escenarios mentales sobre un futuro </a:t>
            </a:r>
            <a:r>
              <a:rPr b="1" lang="es-VE" sz="2200" spc="-1" strike="noStrike">
                <a:solidFill>
                  <a:srgbClr val="ffcc66"/>
                </a:solidFill>
                <a:latin typeface="Arial Narrow"/>
              </a:rPr>
              <a:t>posible, realista, creíble y atractivo...</a:t>
            </a:r>
            <a:r>
              <a:rPr b="1" lang="es-VE" sz="2200" spc="-1" strike="noStrike">
                <a:solidFill>
                  <a:srgbClr val="ffff00"/>
                </a:solidFill>
                <a:latin typeface="Arial Narrow"/>
              </a:rPr>
              <a:t>v</a:t>
            </a:r>
            <a:r>
              <a:rPr b="1" lang="es-VE" sz="2200" spc="-1" strike="noStrike">
                <a:solidFill>
                  <a:srgbClr val="ffcc66"/>
                </a:solidFill>
                <a:latin typeface="Arial Narrow"/>
              </a:rPr>
              <a:t>ago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</a:rPr>
              <a:t> como un sueño </a:t>
            </a:r>
            <a:r>
              <a:rPr b="1" lang="es-VE" sz="2200" spc="-1" strike="noStrike">
                <a:solidFill>
                  <a:srgbClr val="ffcc66"/>
                </a:solidFill>
                <a:latin typeface="Arial Narrow"/>
              </a:rPr>
              <a:t>y preciso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</a:rPr>
              <a:t> como una me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830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5040" y="115920"/>
            <a:ext cx="494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ffcc66"/>
                </a:solidFill>
                <a:latin typeface="comic"/>
              </a:rPr>
              <a:t>misión</a:t>
            </a:r>
            <a:r>
              <a:rPr b="1" i="1" lang="es-VE" sz="4000" spc="-1" strike="noStrike">
                <a:solidFill>
                  <a:srgbClr val="ffffff"/>
                </a:solidFill>
                <a:latin typeface="comic"/>
              </a:rPr>
              <a:t>  empresar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4560" y="2637000"/>
            <a:ext cx="118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000" spc="-1" strike="noStrike">
                <a:solidFill>
                  <a:srgbClr val="ffcc66"/>
                </a:solidFill>
                <a:latin typeface="Arial Narrow"/>
              </a:rPr>
              <a:t>misió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76520" y="2368440"/>
            <a:ext cx="739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ntetiza los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rincipales </a:t>
            </a:r>
            <a:r>
              <a:rPr b="1" lang="es-ES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propósito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stratégicos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 los </a:t>
            </a:r>
            <a:r>
              <a:rPr b="1" lang="es-ES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valores</a:t>
            </a:r>
            <a:r>
              <a:rPr b="1" lang="es-VE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1" lang="es-ES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esenciales</a:t>
            </a:r>
            <a:r>
              <a:rPr b="1" lang="es-VE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 (grado de excelencia)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que deberán ser conocidos, comprendidos y compartidos</a:t>
            </a:r>
            <a:r>
              <a:rPr b="1" lang="es-VE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lang="es-VE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688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36360" y="3941640"/>
            <a:ext cx="906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i="1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alta dirección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otencia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la capacidad de respuesta ante las oportunidad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i="1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gerencia media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rientar sus programas 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optimizando 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los recursos humanos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                             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teriales y financier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i="1" lang="es-ES" sz="2200" spc="-1" strike="noStrike">
                <a:solidFill>
                  <a:srgbClr val="ffcc66"/>
                </a:solidFill>
                <a:latin typeface="Arial"/>
                <a:ea typeface="Times New Roman"/>
              </a:rPr>
              <a:t>personal operativo</a:t>
            </a:r>
            <a:r>
              <a:rPr b="1" lang="es-ES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comprender su participación e importancia</a:t>
            </a:r>
            <a:r>
              <a:rPr b="1" lang="es-VE" sz="2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400" y="556416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ffffff"/>
                </a:solidFill>
                <a:latin typeface="Arial Narrow"/>
              </a:rPr>
              <a:t>¿Quién la def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35040" y="23572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520" y="621180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400" spc="-1" strike="noStrike">
                <a:solidFill>
                  <a:srgbClr val="ffffff"/>
                </a:solidFill>
                <a:latin typeface="Arial Narrow"/>
              </a:rPr>
              <a:t>¿Cómo se defin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4176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1808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0400" y="55641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os accionistas y la alta dirección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.E.O.</a:t>
            </a:r>
            <a:r>
              <a:rPr b="0" lang="en-US" sz="2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27280" y="6211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2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E</a:t>
            </a:r>
            <a:r>
              <a:rPr b="1" lang="es-ES" sz="22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strategia, propósito, valores, </a:t>
            </a:r>
            <a:r>
              <a:rPr b="1" lang="es-VE" sz="22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cultura </a:t>
            </a:r>
            <a:r>
              <a:rPr b="1" lang="es-ES" sz="22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políticas y normas</a:t>
            </a:r>
            <a:r>
              <a:rPr b="1" lang="es-ES" sz="24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5000" y="12542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.....</a:t>
            </a:r>
            <a:r>
              <a:rPr b="1" i="1" lang="es-VE" sz="2800" spc="-1" strike="noStrike">
                <a:solidFill>
                  <a:srgbClr val="ffcc66"/>
                </a:solidFill>
                <a:latin typeface="Arial Narrow"/>
                <a:ea typeface="Times New Roman"/>
              </a:rPr>
              <a:t>La misión se formul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22960" y="3435480"/>
            <a:ext cx="1595160" cy="39888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cc66"/>
                </a:solidFill>
                <a:latin typeface="Arial Narrow"/>
              </a:rPr>
              <a:t>PERTIN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1547280" y="3716280"/>
            <a:ext cx="3745080" cy="0"/>
          </a:xfrm>
          <a:prstGeom prst="line">
            <a:avLst/>
          </a:prstGeom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3705120"/>
            <a:ext cx="0" cy="22860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349236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184360" y="1117440"/>
            <a:ext cx="385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 u="sng">
                <a:solidFill>
                  <a:srgbClr val="ffcc66"/>
                </a:solidFill>
                <a:uFillTx/>
                <a:latin typeface="Arial Narrow"/>
              </a:rPr>
              <a:t>Megatendencias a 25 añ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6960" y="6026040"/>
            <a:ext cx="2500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Arial Narrow"/>
              </a:rPr>
              <a:t>3. La conserv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Arial Narrow"/>
              </a:rPr>
              <a:t>del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23360" y="50760"/>
            <a:ext cx="39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3200" spc="-1" strike="noStrike" u="sng">
                <a:solidFill>
                  <a:srgbClr val="66ffff"/>
                </a:solidFill>
                <a:uFillTx/>
                <a:latin typeface="comic"/>
              </a:rPr>
              <a:t>CAMBIO </a:t>
            </a:r>
            <a:r>
              <a:rPr b="0" i="1" lang="es-VE" sz="3200" spc="-1" strike="noStrike" u="sng">
                <a:solidFill>
                  <a:srgbClr val="66ffff"/>
                </a:solidFill>
                <a:uFillTx/>
                <a:latin typeface="Arial"/>
              </a:rPr>
              <a:t>CONTIN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28480" y="65232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</a:t>
            </a:r>
            <a:r>
              <a:rPr b="1" i="1" lang="es-VE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 la sociedad la que cambia...y  lo h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 </a:t>
            </a:r>
            <a:r>
              <a:rPr b="1" i="1" lang="es-VE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vez más rápido. P. Druck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560" y="238752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cc66"/>
                </a:solidFill>
                <a:latin typeface="Arial Narrow"/>
              </a:rPr>
              <a:t>1. La glob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92880" y="1816200"/>
            <a:ext cx="537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Implica nuev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El mundo se empequeñe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Competencia global = Pensar glob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cc66"/>
                </a:solidFill>
                <a:latin typeface="Arial Narrow"/>
              </a:rPr>
              <a:t>Reto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: crear la capacidad de compet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exitosamente en el ámbito del plan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34200" y="4319640"/>
            <a:ext cx="276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cc66"/>
                </a:solidFill>
                <a:latin typeface="Arial Narrow"/>
              </a:rPr>
              <a:t>2. La masifica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cc66"/>
                </a:solidFill>
                <a:latin typeface="Arial Narrow"/>
              </a:rPr>
              <a:t>de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0560" y="3809880"/>
            <a:ext cx="6308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Las innovaciones tecnológicas se dan muy rápi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nejar la información  permitirá seguir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trategia empresarial innovadora. </a:t>
            </a:r>
            <a:r>
              <a:rPr b="1" i="1" lang="es-VE" sz="2400" spc="-1" strike="noStrike" u="sng">
                <a:solidFill>
                  <a:srgbClr val="ffcc66"/>
                </a:solidFill>
                <a:uFillTx/>
                <a:latin typeface="Arial Narrow"/>
                <a:ea typeface="Times New Roman"/>
              </a:rPr>
              <a:t>infonovación</a:t>
            </a:r>
            <a:r>
              <a:rPr b="1" i="1" lang="es-VE" sz="2400" spc="-1" strike="noStrike" u="sng">
                <a:solidFill>
                  <a:srgbClr val="008000"/>
                </a:solidFill>
                <a:uFillTx/>
                <a:latin typeface="Arial Narrow"/>
                <a:ea typeface="Times New Roman"/>
              </a:rPr>
              <a:t>.</a:t>
            </a:r>
            <a:r>
              <a:rPr b="1" i="1" lang="es-VE" sz="2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 </a:t>
            </a:r>
            <a:r>
              <a:rPr b="1" lang="es-VE" sz="2400" spc="-1" strike="noStrike">
                <a:solidFill>
                  <a:srgbClr val="008000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Da paso a la sociedad de la información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gerencia de Conocimiento.....</a:t>
            </a:r>
            <a:r>
              <a:rPr b="1" i="1" lang="es-VE" sz="2400" spc="-1" strike="noStrike" u="sng">
                <a:solidFill>
                  <a:srgbClr val="ffcc66"/>
                </a:solidFill>
                <a:uFillTx/>
                <a:latin typeface="Arial Narrow"/>
              </a:rPr>
              <a:t>Aprender a apre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65560" y="5883120"/>
            <a:ext cx="45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Desafío político, económico y so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Es un planeta fin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346200" y="203040"/>
            <a:ext cx="55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200" spc="-1" strike="noStrike" u="sng">
                <a:solidFill>
                  <a:srgbClr val="66ffff"/>
                </a:solidFill>
                <a:uFillTx/>
                <a:latin typeface="Arial"/>
              </a:rPr>
              <a:t>TENDENCIAS DEL FUTU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4191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981000"/>
            <a:ext cx="591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 Narrow"/>
              </a:rPr>
              <a:t>Resistencia cultural a la glob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 Narrow"/>
              </a:rPr>
              <a:t>Se vislumbra un mundo mult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 Narrow"/>
              </a:rPr>
              <a:t>El capitalismo sistema económico domin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 Narrow"/>
              </a:rPr>
              <a:t>Asia, centro económ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00"/>
                </a:solidFill>
                <a:latin typeface="Arial Narrow"/>
              </a:rPr>
              <a:t>( China: tecnología nuclear; India: Informát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78160" y="119700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7720" y="90792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8760" y="3213000"/>
            <a:ext cx="28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Latinoameric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70160" y="357336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12040" y="3073320"/>
            <a:ext cx="5308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66ffff"/>
                </a:solidFill>
                <a:latin typeface="Arial Narrow"/>
              </a:rPr>
              <a:t>Polo cultural autónomo : Brasil.......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66ffff"/>
                </a:solidFill>
                <a:latin typeface="Arial Narrow"/>
              </a:rPr>
              <a:t>sub.-polo : Usa, Europa, y Jap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66ffff"/>
                </a:solidFill>
                <a:latin typeface="Arial Narrow"/>
              </a:rPr>
              <a:t>Méjico = 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66ffff"/>
                </a:solidFill>
                <a:latin typeface="Arial Narrow"/>
              </a:rPr>
              <a:t>Mercosur = Europ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66ffff"/>
                </a:solidFill>
                <a:latin typeface="Arial Narrow"/>
              </a:rPr>
              <a:t>Cuenca pacífico = Jap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8000" y="5084640"/>
            <a:ext cx="157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N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35240" y="5410080"/>
            <a:ext cx="58971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Petróleo y ubicación geográ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MERCOSUR – Usa ; Europa, China y Jap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Venezuela = campo de batalla pos-glob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3720" y="228600"/>
            <a:ext cx="251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ffffff"/>
                </a:solidFill>
                <a:latin typeface="Arial Narrow"/>
              </a:rPr>
              <a:t>Francés, A. (1999) IE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1582560" cy="1841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619280" y="3645000"/>
            <a:ext cx="1800360" cy="18684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979640" y="5589720"/>
            <a:ext cx="1079640" cy="144360"/>
          </a:xfrm>
          <a:prstGeom prst="rightArrow">
            <a:avLst>
              <a:gd name="adj1" fmla="val 50000"/>
              <a:gd name="adj2" fmla="val 18697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50920" y="5661000"/>
            <a:ext cx="1224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95280" y="476280"/>
            <a:ext cx="50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200" spc="-1" strike="noStrike" u="sng">
                <a:solidFill>
                  <a:srgbClr val="66ffff"/>
                </a:solidFill>
                <a:uFillTx/>
                <a:latin typeface="comic"/>
              </a:rPr>
              <a:t>GERENCIA DEL CAM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27640" y="2924280"/>
            <a:ext cx="360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La Gerencia del Cambio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el proceso de globalización y negocios,   como la organización enfrentar complejas situaciones de cambio que no deben ser atendidas de manera dispersa, requiere de una plataforma que asegure con éxito el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700280"/>
            <a:ext cx="3960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Gerencia: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arte manejar recurs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y  logro de 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2155200">
            <a:off x="4849920" y="930240"/>
            <a:ext cx="1887480" cy="1440000"/>
          </a:xfrm>
          <a:custGeom>
            <a:avLst/>
            <a:gdLst>
              <a:gd name="textAreaLeft" fmla="*/ 330120 w 1887480"/>
              <a:gd name="textAreaRight" fmla="*/ 1368360 w 1887480"/>
              <a:gd name="textAreaTop" fmla="*/ 192960 h 1440000"/>
              <a:gd name="textAreaBottom" fmla="*/ 124704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229961"/>
                <a:lnTo>
                  <a:pt x="21364" y="16246"/>
                </a:lnTo>
                <a:lnTo>
                  <a:pt x="17280" y="21600"/>
                </a:lnTo>
                <a:lnTo>
                  <a:pt x="12724" y="16246"/>
                </a:lnTo>
                <a:lnTo>
                  <a:pt x="14884" y="16246"/>
                </a:lnTo>
                <a:arcTo wR="7560" hR="21600" stAng="-2170039" swAng="-2872526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240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15920"/>
            <a:ext cx="814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200" spc="-1" strike="noStrike" u="sng">
                <a:solidFill>
                  <a:srgbClr val="66ffff"/>
                </a:solidFill>
                <a:uFillTx/>
                <a:latin typeface="Arial Narrow"/>
              </a:rPr>
              <a:t>¿Cómo se Replantearía   la Empresa del futur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1280" y="765000"/>
            <a:ext cx="9325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nteniéndose en la cima de las tendenc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legando a ser un campeón del cambio.</a:t>
            </a:r>
            <a:r>
              <a:rPr b="0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ratando, gratificando, y promocionando a los mejores y más brillantes.</a:t>
            </a:r>
            <a:r>
              <a:rPr b="0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pacitando, asesorando y amonestando al personal renuente al trabajo. Si eso no funciona se debe terminar con el personal que no quiera progresar ni hacer progresar a la empresa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66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ffff"/>
                </a:solidFill>
                <a:latin typeface="Arial Narrow"/>
                <a:ea typeface="Times New Roman"/>
              </a:rPr>
              <a:t>Pensando </a:t>
            </a: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lobalmente, </a:t>
            </a:r>
            <a:r>
              <a:rPr b="1" lang="es-ES" sz="2600" spc="-1" strike="noStrike">
                <a:solidFill>
                  <a:srgbClr val="66ffff"/>
                </a:solidFill>
                <a:latin typeface="Arial Narrow"/>
                <a:ea typeface="Times New Roman"/>
              </a:rPr>
              <a:t>actuando </a:t>
            </a: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ocalmente</a:t>
            </a:r>
            <a:r>
              <a:rPr b="0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novan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sarrollando compromisos a largo plazo con los clientes.</a:t>
            </a:r>
            <a:r>
              <a:rPr b="0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virtiendo en tecnología, gente, y capacitación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entuando la innovación y adaptación en las charlas con los empleados.</a:t>
            </a:r>
            <a:r>
              <a:rPr b="0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624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uchando contra la complacencia del éxito.</a:t>
            </a:r>
            <a:r>
              <a:rPr b="0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835280" y="115920"/>
            <a:ext cx="63007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 u="sng">
                <a:solidFill>
                  <a:srgbClr val="66ffff"/>
                </a:solidFill>
                <a:uFillTx/>
                <a:latin typeface="Arial Narrow"/>
              </a:rPr>
              <a:t>Información y Decisión Empresa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5280" y="1052640"/>
            <a:ext cx="8534520" cy="47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información 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Vincula la organización con su entorno y es el lubricante de las operaciones interna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la información debe gestionarse igual que cualquier otro recurso valios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El sistema de gestión de la información debe asegurar que se proporcione a los centros de decisión la cantidad y calidad en el momento preciso y de carácter relevan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1752480" cy="17258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258920" y="5295960"/>
            <a:ext cx="1755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79280" y="3068640"/>
            <a:ext cx="288144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DISEÑ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DE ESCEN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1700280"/>
            <a:ext cx="360036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COMPLEJ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5445000"/>
            <a:ext cx="5111640" cy="10083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PENSAMIENTO SISTEM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260280"/>
            <a:ext cx="511164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GESTION DEL CONOCIMI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19640" y="3645000"/>
            <a:ext cx="360036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GERENCIA CAM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55640" y="4581360"/>
            <a:ext cx="1824120" cy="20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059280" y="2205000"/>
            <a:ext cx="2160360" cy="25192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68360" y="189000"/>
            <a:ext cx="233532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24000" y="3068640"/>
            <a:ext cx="8569080" cy="35060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ff"/>
                </a:solidFill>
                <a:latin typeface="Arial Narrow"/>
              </a:rPr>
              <a:t>La ola del futuro</a:t>
            </a:r>
            <a:r>
              <a:rPr b="1" lang="es-ES" sz="3200" spc="-1" strike="noStrike">
                <a:solidFill>
                  <a:srgbClr val="ffffff"/>
                </a:solidFill>
                <a:latin typeface="Arial Narrow"/>
              </a:rPr>
              <a:t> es la producción flexible y la organización flexible. En ese sentido, muchos países en desarrollo deben continuar mejorando la calidad de su educación y su infraestructura física permitirá competir más eficazmente en los mercados locales y regionales, y en el caso de algunas industrias, en los mercados mundial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427800" y="0"/>
            <a:ext cx="2716200" cy="2160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3600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143000"/>
            <a:ext cx="723888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66ffff"/>
                </a:solidFill>
                <a:uFillTx/>
                <a:latin typeface="Arial"/>
                <a:ea typeface="Arial"/>
              </a:rPr>
              <a:t>Construir el futuro.</a:t>
            </a:r>
            <a:r>
              <a:rPr b="1" lang="es-ES" sz="2400" spc="-1" strike="noStrike" u="sng">
                <a:solidFill>
                  <a:srgbClr val="66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Gerencia autóctona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tinuidad del liderazgo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rto y largo plazo sin disyuntiva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oder de la alineación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ecciones para la alineación.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49417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compañía más competitiva, eficaz y acorde a los cambios de un mundo globalizado con el SISTEMA INTEGRAL PARA CUBRIR ESPA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292720" y="260280"/>
            <a:ext cx="3851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429080" y="243000"/>
            <a:ext cx="437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800" spc="-1" strike="noStrike">
                <a:solidFill>
                  <a:srgbClr val="ffffff"/>
                </a:solidFill>
                <a:latin typeface="comic"/>
              </a:rPr>
              <a:t>La Empresa..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2808360"/>
            <a:ext cx="89154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La entidad integrada por el capital y el trabajo, como factores de producción  dedicada actividades industriales, mercantiles o de prestación de servicios, con fines lucrativos y la consiguiente responsabilida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76320" y="5567400"/>
            <a:ext cx="92966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Arial Narrow"/>
                <a:ea typeface="Arial"/>
              </a:rPr>
              <a:t>   “</a:t>
            </a:r>
            <a:r>
              <a:rPr b="1" lang="es-VE" sz="2600" spc="-1" strike="noStrike">
                <a:solidFill>
                  <a:srgbClr val="ffffff"/>
                </a:solidFill>
                <a:latin typeface="Arial Narrow"/>
                <a:ea typeface="Arial"/>
              </a:rPr>
              <a:t>Grupo   humano   de   especialistas   que  trabajan  juntos  de  manera estructurada (procesos y recursos) con el propósito de  alcanzar metas”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37680" y="4508640"/>
            <a:ext cx="2463840" cy="5205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  <a:ea typeface="Arial"/>
              </a:rPr>
              <a:t>ORGAN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4360" y="2324160"/>
            <a:ext cx="51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UY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o concepto de la ciencia económica:</a:t>
            </a:r>
            <a:r>
              <a:rPr b="0" lang="es-UY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71920" y="1841400"/>
            <a:ext cx="75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200" spc="-1" strike="noStrike">
                <a:solidFill>
                  <a:srgbClr val="00ffff"/>
                </a:solidFill>
                <a:latin typeface="Arial Narrow"/>
              </a:rPr>
              <a:t>“</a:t>
            </a:r>
            <a:r>
              <a:rPr b="1" i="1" lang="es-VE" sz="3200" spc="-1" strike="noStrike">
                <a:solidFill>
                  <a:srgbClr val="00ffff"/>
                </a:solidFill>
                <a:latin typeface="Arial Narrow"/>
              </a:rPr>
              <a:t>Acción  emprender y cosa que se emprend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51440" y="512748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144360"/>
            <a:ext cx="3168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74240" y="907920"/>
            <a:ext cx="6222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600" spc="-1" strike="noStrike">
                <a:solidFill>
                  <a:srgbClr val="ffffff"/>
                </a:solidFill>
                <a:latin typeface="Arial Narrow"/>
              </a:rPr>
              <a:t>Obtener  ganancias o utilidades mutua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600" spc="-1" strike="noStrike">
                <a:solidFill>
                  <a:srgbClr val="ffffff"/>
                </a:solidFill>
                <a:latin typeface="Arial Narrow"/>
              </a:rPr>
              <a:t>Producir bienes/servicios o rendir beneficios</a:t>
            </a:r>
            <a:r>
              <a:rPr b="1" lang="es-ES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5080" y="1052640"/>
            <a:ext cx="7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8000" y="3535200"/>
            <a:ext cx="27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cc66"/>
                </a:solidFill>
                <a:latin typeface="Arial Narrow"/>
              </a:rPr>
              <a:t>JUSTIFIC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257800"/>
            <a:ext cx="784872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Tienen muchas repercusiones en nuestra existencia, nuestro nivel de  vida y nuestro </a:t>
            </a:r>
            <a:r>
              <a:rPr b="1" lang="es-VE" sz="2400" spc="-1" strike="noStrike">
                <a:solidFill>
                  <a:srgbClr val="ffcc66"/>
                </a:solidFill>
                <a:latin typeface="Arial Narrow"/>
              </a:rPr>
              <a:t>FUTURO,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por esto es necesario estudiarl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45840" y="154080"/>
            <a:ext cx="26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800" spc="-1" strike="noStrike">
                <a:solidFill>
                  <a:srgbClr val="ffffff"/>
                </a:solidFill>
                <a:latin typeface="comic"/>
              </a:rPr>
              <a:t>.......La empre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5240" y="2714760"/>
            <a:ext cx="364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Conce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Satisfacen neces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Nivel de vida </a:t>
            </a:r>
            <a:r>
              <a:rPr b="1" lang="es-VE" sz="2800" spc="-1" strike="noStrike">
                <a:solidFill>
                  <a:srgbClr val="ffcc66"/>
                </a:solidFill>
                <a:latin typeface="Arial Narrow"/>
              </a:rPr>
              <a:t>pres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Edifican el </a:t>
            </a:r>
            <a:r>
              <a:rPr b="1" lang="es-VE" sz="2800" spc="-1" strike="noStrike">
                <a:solidFill>
                  <a:srgbClr val="ffcc66"/>
                </a:solidFill>
                <a:latin typeface="Arial Narrow"/>
              </a:rPr>
              <a:t>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800" spc="-1" strike="noStrike">
                <a:solidFill>
                  <a:srgbClr val="ffffff"/>
                </a:solidFill>
                <a:latin typeface="Arial Narrow"/>
              </a:rPr>
              <a:t>Recuerdan el </a:t>
            </a:r>
            <a:r>
              <a:rPr b="1" lang="es-VE" sz="2800" spc="-1" strike="noStrike">
                <a:solidFill>
                  <a:srgbClr val="ffcc66"/>
                </a:solidFill>
                <a:latin typeface="Arial Narrow"/>
              </a:rPr>
              <a:t>pas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11970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819520"/>
            <a:ext cx="533520" cy="2133360"/>
          </a:xfrm>
          <a:custGeom>
            <a:avLst/>
            <a:gdLst>
              <a:gd name="textAreaLeft" fmla="*/ 340920 w 533520"/>
              <a:gd name="textAreaRight" fmla="*/ 533880 w 5335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333360"/>
            <a:ext cx="35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Alcanzar metas o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804000" y="2060640"/>
            <a:ext cx="2266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68520" y="3429000"/>
            <a:ext cx="2070360" cy="58140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99480" y="4292640"/>
            <a:ext cx="2070360" cy="5814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RECUR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076640"/>
            <a:ext cx="7920" cy="144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73440" y="5013360"/>
            <a:ext cx="33112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Promotores / accion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421160" y="4941720"/>
            <a:ext cx="6480" cy="88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86560" y="39607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insum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6320" y="3645000"/>
            <a:ext cx="11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Bien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7400" y="2365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ff00"/>
                </a:solidFill>
                <a:latin typeface="Times New Roman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27640" y="256536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86040" y="191628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ff00"/>
                </a:solidFill>
                <a:latin typeface="Times New Roman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96680" y="10526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Arial Narrow"/>
              </a:rPr>
              <a:t>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981080" y="3960720"/>
            <a:ext cx="1371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500280"/>
            <a:ext cx="6858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248520" y="2349000"/>
            <a:ext cx="144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1989000"/>
            <a:ext cx="11430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436840"/>
            <a:ext cx="15238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1989000"/>
            <a:ext cx="144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2436840"/>
            <a:ext cx="180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052640"/>
            <a:ext cx="18288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1052640"/>
            <a:ext cx="144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1413000"/>
            <a:ext cx="533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1413000"/>
            <a:ext cx="144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81080" y="2893680"/>
            <a:ext cx="180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1598400"/>
            <a:ext cx="144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1598760"/>
            <a:ext cx="761760" cy="1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88320" y="33336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ffffff"/>
                </a:solidFill>
                <a:latin typeface="comic"/>
              </a:rPr>
              <a:t>La empresa …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160" y="5753160"/>
            <a:ext cx="150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0000"/>
                </a:solidFill>
                <a:latin typeface="Times New Roman"/>
              </a:rPr>
              <a:t>Naturale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Priv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990720" y="5576760"/>
            <a:ext cx="838080" cy="228600"/>
          </a:xfrm>
          <a:prstGeom prst="line">
            <a:avLst/>
          </a:prstGeom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5589720"/>
            <a:ext cx="30492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5508720"/>
            <a:ext cx="990720" cy="152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84360" y="5516640"/>
            <a:ext cx="73080" cy="57924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6160" y="5737320"/>
            <a:ext cx="1349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cc66"/>
                </a:solidFill>
                <a:latin typeface="Times New Roman"/>
              </a:rPr>
              <a:t>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Con y s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lu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1960" y="304920"/>
            <a:ext cx="15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00ff"/>
                </a:solidFill>
                <a:latin typeface="Times New Roman"/>
              </a:rPr>
              <a:t>Dim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pequeñ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medi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Times New Roman"/>
              </a:rPr>
              <a:t>gran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904760" y="228600"/>
            <a:ext cx="533160" cy="9144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990360" y="1143000"/>
            <a:ext cx="1447560" cy="83808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657440" cy="1873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8000" y="2997360"/>
            <a:ext cx="1657440" cy="2376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93080" y="2637000"/>
            <a:ext cx="1841400" cy="1231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6948360" y="333360"/>
            <a:ext cx="1841760" cy="1835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3276720" y="5516640"/>
            <a:ext cx="2232000" cy="13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7413480" y="4437000"/>
            <a:ext cx="17305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93080" y="4575240"/>
            <a:ext cx="1589040" cy="2282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63520" y="333360"/>
            <a:ext cx="266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4400" spc="-1" strike="noStrike">
                <a:solidFill>
                  <a:srgbClr val="ffffff"/>
                </a:solidFill>
                <a:latin typeface="comic"/>
              </a:rPr>
              <a:t>HISTORI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5880" y="1052640"/>
            <a:ext cx="832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600" spc="-1" strike="noStrike">
                <a:solidFill>
                  <a:srgbClr val="ffffff"/>
                </a:solidFill>
                <a:latin typeface="Arial Narrow"/>
              </a:rPr>
              <a:t>Pre-histórica – Antigua – Medieval – Moderna - Contemporáne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0800" y="380880"/>
            <a:ext cx="24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Historia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256600">
            <a:off x="2933280" y="64728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1788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1840" y="177336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ffff"/>
                </a:solidFill>
                <a:uFillTx/>
                <a:latin typeface="Arial Narrow"/>
              </a:rPr>
              <a:t>Organización agra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352680" y="1989000"/>
            <a:ext cx="609840" cy="152640"/>
          </a:xfrm>
          <a:custGeom>
            <a:avLst/>
            <a:gdLst>
              <a:gd name="textAreaLeft" fmla="*/ 95040 w 609840"/>
              <a:gd name="textAreaRight" fmla="*/ 533880 w 60984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7720" y="177336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Desde la primitiva hasta la feud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9800" y="242100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ffff"/>
                </a:solidFill>
                <a:uFillTx/>
                <a:latin typeface="Arial Narrow"/>
              </a:rPr>
              <a:t>indust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ffff"/>
                </a:solidFill>
                <a:uFillTx/>
                <a:latin typeface="Arial Narrow"/>
              </a:rPr>
              <a:t>pre-capita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278136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227664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Villa burguesa, gremios, pequeño artesano ampliación de mercado, mayor inversión, monopolio y discip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0160" y="3902040"/>
            <a:ext cx="18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ffff"/>
                </a:solidFill>
                <a:uFillTx/>
                <a:latin typeface="Arial Narrow"/>
              </a:rPr>
              <a:t>Comer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ffff"/>
                </a:solidFill>
                <a:uFillTx/>
                <a:latin typeface="Arial Narrow"/>
              </a:rPr>
              <a:t>Pre-capital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4114800"/>
            <a:ext cx="609480" cy="152280"/>
          </a:xfrm>
          <a:custGeom>
            <a:avLst/>
            <a:gdLst>
              <a:gd name="textAreaLeft" fmla="*/ 95040 w 609480"/>
              <a:gd name="textAreaRight" fmla="*/ 533520 w 60948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0840" y="373392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66ffff"/>
                </a:solidFill>
                <a:latin typeface="Arial Narrow"/>
              </a:rPr>
              <a:t>Forastero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: viajes por tierra y 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66ffff"/>
                </a:solidFill>
                <a:latin typeface="Arial Narrow"/>
              </a:rPr>
              <a:t>Sedentario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: sitio determinado, viajan otros, sucu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66ffff"/>
                </a:solidFill>
                <a:latin typeface="Arial Narrow"/>
              </a:rPr>
              <a:t>Ferias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: comercio entre comerciantes, al may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33840" y="533412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 u="sng">
                <a:solidFill>
                  <a:srgbClr val="ffffff"/>
                </a:solidFill>
                <a:uFillTx/>
                <a:latin typeface="Arial Narrow"/>
              </a:rPr>
              <a:t>Capital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47640" y="5589720"/>
            <a:ext cx="432000" cy="125280"/>
          </a:xfrm>
          <a:custGeom>
            <a:avLst/>
            <a:gdLst>
              <a:gd name="textAreaLeft" fmla="*/ 67320 w 432000"/>
              <a:gd name="textAreaRight" fmla="*/ 378000 w 432000"/>
              <a:gd name="textAreaTop" fmla="*/ 31320 h 125280"/>
              <a:gd name="textAreaBottom" fmla="*/ 93960 h 12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70360" y="575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4520" y="5105520"/>
            <a:ext cx="706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Disposición de bienes materiales de producción, libert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de mercado, contabilidad, seguridad jurídica, trabajo li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</a:rPr>
              <a:t>y mercado de capit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8440" y="63244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ffffff"/>
                </a:solidFill>
                <a:latin typeface="Arial Narrow"/>
              </a:rPr>
              <a:t>Weber, 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16700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4038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TAREA (antes de los  6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FUNCIÓN    (1960 – 198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EFECTIVIDAD </a:t>
            </a:r>
            <a:r>
              <a:rPr b="1" lang="es-CO" sz="2400" spc="-1" strike="noStrike">
                <a:solidFill>
                  <a:srgbClr val="ff0000"/>
                </a:solidFill>
                <a:latin typeface="Arial Narrow"/>
              </a:rPr>
              <a:t>1990 - FUTU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1052640"/>
            <a:ext cx="55450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proceso administra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inicio de la Informá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inicio de la administración de RRH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desempeño basado en la </a:t>
            </a:r>
            <a:r>
              <a:rPr b="1" i="1" lang="es-CO" sz="2400" spc="-1" strike="noStrike">
                <a:solidFill>
                  <a:srgbClr val="00ffff"/>
                </a:solidFill>
                <a:latin typeface="Arial Narrow"/>
              </a:rPr>
              <a:t>efica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Organización piramid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aprendizaje basado en la </a:t>
            </a:r>
            <a:r>
              <a:rPr b="1" i="1" lang="es-CO" sz="2400" spc="-1" strike="noStrike">
                <a:solidFill>
                  <a:srgbClr val="00ffff"/>
                </a:solidFill>
                <a:latin typeface="Arial Narrow"/>
              </a:rPr>
              <a:t>Capacit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88136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DECADA DE LOS ’7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Administr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por Obj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" y="510552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DECADA DE LOS ’80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Planeación Estraté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3824280"/>
            <a:ext cx="648036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Organización  como un sistem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Organización en  U. E. 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Desempeño basado en la </a:t>
            </a:r>
            <a:r>
              <a:rPr b="1" i="1" lang="es-CO" sz="2200" spc="-1" strike="noStrike">
                <a:solidFill>
                  <a:srgbClr val="00ffff"/>
                </a:solidFill>
                <a:latin typeface="Arial Narrow"/>
              </a:rPr>
              <a:t>eficien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Desarrollo Organizacion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Inicio de desarrollo tecnológ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Aprendizaje: capacitación-entrenamiento-desarrol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Auge de la Gerencia Japones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200" spc="-1" strike="noStrike">
                <a:solidFill>
                  <a:srgbClr val="ffffff"/>
                </a:solidFill>
                <a:latin typeface="Arial Narrow"/>
              </a:rPr>
              <a:t>Mercadeo orientado a los produc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18800" y="30492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ffff"/>
                </a:solidFill>
                <a:latin typeface="comic"/>
              </a:rPr>
              <a:t>.....HISTOR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87640" y="22096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00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4038480"/>
            <a:ext cx="1066680" cy="9144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616" stAng="10800000" swAng="5400000"/>
                <a:lnTo>
                  <a:pt x="15139" y="2544"/>
                </a:lnTo>
                <a:lnTo>
                  <a:pt x="15139" y="0"/>
                </a:lnTo>
                <a:lnTo>
                  <a:pt x="21600" y="6079"/>
                </a:lnTo>
                <a:lnTo>
                  <a:pt x="15139" y="12158"/>
                </a:lnTo>
                <a:lnTo>
                  <a:pt x="15139" y="9614"/>
                </a:lnTo>
                <a:lnTo>
                  <a:pt x="12427" y="9614"/>
                </a:lnTo>
                <a:arcTo wR="5357" hR="2546" stAng="16200000" swAng="-5400000"/>
                <a:lnTo>
                  <a:pt x="7070" y="21600"/>
                </a:lnTo>
                <a:close/>
              </a:path>
            </a:pathLst>
          </a:custGeom>
          <a:solidFill>
            <a:srgbClr val="ff0033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1589040" cy="1830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7319880" y="3500280"/>
            <a:ext cx="182412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211640" y="914400"/>
            <a:ext cx="4800600" cy="24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62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Pensamiento Sistémic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62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Organización Inteligente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62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Comunicaciones: Celular- Satelital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Internet, Intranet y Extranet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62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Servici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62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500" spc="-1" strike="noStrike">
                <a:solidFill>
                  <a:srgbClr val="ffffff"/>
                </a:solidFill>
                <a:latin typeface="Arial Narrow"/>
              </a:rPr>
              <a:t>Gestión del Conocimiento.   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3960" y="1152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Administración Cibernética </a:t>
            </a:r>
            <a:br>
              <a:rPr sz="2400"/>
            </a:br>
            <a:r>
              <a:rPr b="1" lang="es-CO" sz="2400" spc="-1" strike="noStrike">
                <a:solidFill>
                  <a:srgbClr val="ffffff"/>
                </a:solidFill>
                <a:latin typeface="Arial Narrow"/>
              </a:rPr>
              <a:t>y Modelos de Desarrollo Hum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600" y="3708360"/>
            <a:ext cx="6278400" cy="28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Organización Horizonta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Calibradores de la Productiv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Indicadores de Control de Gestió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Desempeño basado en la   efectividad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Integración económica, globaliz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Gerencia estratégica 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1624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600" spc="-1" strike="noStrike">
                <a:solidFill>
                  <a:srgbClr val="ffffff"/>
                </a:solidFill>
                <a:latin typeface="Arial Narrow"/>
              </a:rPr>
              <a:t>Gerencia del cambio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2437920" y="1980720"/>
            <a:ext cx="1143000" cy="114300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658440 h 1143000"/>
              <a:gd name="textAreaBottom" fmla="*/ 97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71640" y="7632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ffffff"/>
                </a:solidFill>
                <a:latin typeface="comic"/>
              </a:rPr>
              <a:t>Actualidad de las empre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2184120" cy="2663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158256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1120" y="189000"/>
            <a:ext cx="4952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3600" spc="-1" strike="noStrike">
                <a:solidFill>
                  <a:srgbClr val="ffffff"/>
                </a:solidFill>
                <a:latin typeface="comic"/>
              </a:rPr>
              <a:t>FUTURO EMPRESARI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35640" y="2340000"/>
            <a:ext cx="18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ff0033"/>
                </a:solidFill>
                <a:latin typeface="Arial Narrow"/>
              </a:rPr>
              <a:t>DESAFÍ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1319040"/>
            <a:ext cx="65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Complej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Entorno altamente sistemati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Alto desarrollo electrónico y tecnológi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Realidad y Comunicación virtu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Alta capacidad para desplazami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003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s-CO" sz="2800" spc="-1" strike="noStrike">
                <a:solidFill>
                  <a:srgbClr val="ffffff"/>
                </a:solidFill>
                <a:latin typeface="Arial Narrow"/>
              </a:rPr>
              <a:t>Mercadeo global, basado en servici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2492280"/>
            <a:ext cx="720720" cy="381240"/>
          </a:xfrm>
          <a:custGeom>
            <a:avLst/>
            <a:gdLst>
              <a:gd name="textAreaLeft" fmla="*/ 90000 w 720720"/>
              <a:gd name="textAreaRight" fmla="*/ 630720 w 7207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813200"/>
            <a:ext cx="896472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isión estratégica, capacidad de innovación, prospectiva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y crear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 u="sng">
                <a:solidFill>
                  <a:srgbClr val="00ffff"/>
                </a:solidFill>
                <a:uFillTx/>
                <a:latin typeface="Arial Narrow"/>
              </a:rPr>
              <a:t>AVIZORAR EL FUTURO CONSTRUYENDO ESCENAR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00ffff"/>
                </a:solidFill>
                <a:latin typeface="Arial Narrow"/>
              </a:rPr>
              <a:t>GERENCIA ESTRATÉG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672240" y="0"/>
            <a:ext cx="247176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357080" y="260280"/>
            <a:ext cx="46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ffcc66"/>
                </a:solidFill>
                <a:latin typeface="comic"/>
              </a:rPr>
              <a:t>Visión </a:t>
            </a:r>
            <a:r>
              <a:rPr b="1" i="1" lang="es-VE" sz="4000" spc="-1" strike="noStrike">
                <a:solidFill>
                  <a:srgbClr val="ffffff"/>
                </a:solidFill>
                <a:latin typeface="comic"/>
              </a:rPr>
              <a:t>empresari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2525760"/>
            <a:ext cx="8610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s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n 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junto de ideas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que proveen el marco de referencia de lo que una 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organización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quiere y espera a futuro  (Serna, H. 2000 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4360" y="5945040"/>
            <a:ext cx="7056360" cy="788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66ffff"/>
                </a:solidFill>
                <a:latin typeface="Arial Narrow"/>
                <a:ea typeface="Times New Roman"/>
              </a:rPr>
              <a:t>Es una herramienta intelectual del proceso ger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66ffff"/>
                </a:solidFill>
                <a:latin typeface="Arial Narrow"/>
                <a:ea typeface="Times New Roman"/>
              </a:rPr>
              <a:t>La imagen de un futuro dese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2280" y="3533760"/>
            <a:ext cx="868680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 gran reto empresarial que motiva e impulsa la  creativ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d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n la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 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ctividades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ntro y fuera de la empres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4464000"/>
            <a:ext cx="84582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solida el liderazgo de </a:t>
            </a:r>
            <a:r>
              <a:rPr b="1" lang="es-VE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 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ta dirección, le permite enfocar su capacidad de dirección, conducción y ejecución hacia su logro perman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46240" y="1052640"/>
            <a:ext cx="50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2800" spc="-1" strike="noStrike">
                <a:solidFill>
                  <a:srgbClr val="ffcc66"/>
                </a:solidFill>
                <a:latin typeface="Arial Narrow"/>
              </a:rPr>
              <a:t>           “ </a:t>
            </a:r>
            <a:r>
              <a:rPr b="1" i="1" lang="es-VE" sz="3200" spc="-1" strike="noStrike">
                <a:solidFill>
                  <a:srgbClr val="ffcc66"/>
                </a:solidFill>
                <a:latin typeface="Arial Narrow"/>
              </a:rPr>
              <a:t>La visión se declara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-36360" y="-27000"/>
            <a:ext cx="4392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16:32:58Z</dcterms:created>
  <dc:creator>CARLOS</dc:creator>
  <dc:description/>
  <dc:language>en-US</dc:language>
  <cp:lastModifiedBy>Ayres</cp:lastModifiedBy>
  <dcterms:modified xsi:type="dcterms:W3CDTF">2007-04-22T23:08:15Z</dcterms:modified>
  <cp:revision>68</cp:revision>
  <dc:subject/>
  <dc:title>Presentación de PowerPoint</dc:title>
</cp:coreProperties>
</file>