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0088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D5EE-4C14-43D9-8A67-2E21B6445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4A3E-9705-49A8-9379-7679121C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4295-2614-420B-A51D-28D22AF4A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C83E-A179-47AA-8327-E35748B7F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B833-7516-4FD2-9752-577B57F5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51C1-0A03-460A-9C64-E750377E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A1F6-C6C4-4A46-A29F-19792741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FD33-E867-4EA2-897A-2F68EC42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703E-EBFE-4C43-BD90-A0B2A8E0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4249-B4DD-4C92-8A59-62EC02B4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A143-5158-4D7F-B284-AC9219B6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8E22-EBF1-446F-86F0-612C8F5B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AC81-EA8D-4707-B994-6A0D5CDC6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601992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701b"/>
                </a:solidFill>
                <a:latin typeface="Times New Roman"/>
              </a:rPr>
              <a:t>Multi-R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934320" y="5486400"/>
            <a:ext cx="1752480" cy="766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19320" y="1676520"/>
            <a:ext cx="653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3352680"/>
            <a:ext cx="2666880" cy="1143000"/>
          </a:xfrm>
          <a:prstGeom prst="rightArrow">
            <a:avLst>
              <a:gd name="adj1" fmla="val 50000"/>
              <a:gd name="adj2" fmla="val 58331"/>
            </a:avLst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733920" y="3581280"/>
            <a:ext cx="1752480" cy="766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rot="10799400">
            <a:off x="5636880" y="3426840"/>
            <a:ext cx="2743200" cy="1143000"/>
          </a:xfrm>
          <a:prstGeom prst="rightArrow">
            <a:avLst>
              <a:gd name="adj1" fmla="val 50000"/>
              <a:gd name="adj2" fmla="val 60000"/>
            </a:avLst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5410800">
            <a:off x="3769920" y="2170080"/>
            <a:ext cx="1523880" cy="1143000"/>
          </a:xfrm>
          <a:prstGeom prst="rightArrow">
            <a:avLst>
              <a:gd name="adj1" fmla="val 50000"/>
              <a:gd name="adj2" fmla="val 33331"/>
            </a:avLst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3657600"/>
            <a:ext cx="2133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rect Repor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3749400" y="4859280"/>
            <a:ext cx="152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e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3982320" y="238248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77120" y="3733920"/>
            <a:ext cx="2133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ervis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3695760" y="4762080"/>
            <a:ext cx="1676520" cy="1143000"/>
          </a:xfrm>
          <a:prstGeom prst="rightArrow">
            <a:avLst>
              <a:gd name="adj1" fmla="val 50000"/>
              <a:gd name="adj2" fmla="val 36669"/>
            </a:avLst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701b"/>
                </a:solidFill>
                <a:latin typeface="Times New Roman"/>
              </a:rPr>
              <a:t>Single v. Multi-R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34320" y="5486400"/>
            <a:ext cx="1752480" cy="7668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10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ingle-Source may…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self-ser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ct b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have obser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confro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y from 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76920" y="1752480"/>
            <a:ext cx="3809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Multi-rater tend to…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b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those who k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ote hones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 fuller pi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701b"/>
                </a:solidFill>
                <a:latin typeface="Times New Roman"/>
              </a:rPr>
              <a:t>Use of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934320" y="5486400"/>
            <a:ext cx="1752480" cy="766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219320" y="1676520"/>
            <a:ext cx="653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648320" y="838080"/>
            <a:ext cx="1752480" cy="766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523880" y="2286000"/>
            <a:ext cx="6629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cation of areas of strength and conc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ison to peer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on of Personal Development Plan (PD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rganizational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 rot="5400000">
            <a:off x="7467480" y="2286000"/>
            <a:ext cx="1447920" cy="8380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701b"/>
                </a:solidFill>
                <a:latin typeface="Times New Roman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5486400"/>
            <a:ext cx="1752480" cy="7668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28600" y="1981080"/>
            <a:ext cx="1828800" cy="83844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c570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828800" y="1981080"/>
            <a:ext cx="2286000" cy="838440"/>
            <a:chOff x="1828800" y="1981080"/>
            <a:chExt cx="2286000" cy="838440"/>
          </a:xfrm>
        </p:grpSpPr>
        <p:sp>
          <p:nvSpPr>
            <p:cNvPr id="139" name=""/>
            <p:cNvSpPr/>
            <p:nvPr/>
          </p:nvSpPr>
          <p:spPr>
            <a:xfrm>
              <a:off x="1828800" y="1981080"/>
              <a:ext cx="2286000" cy="838440"/>
            </a:xfrm>
            <a:custGeom>
              <a:avLst/>
              <a:gdLst>
                <a:gd name="textAreaLeft" fmla="*/ 0 w 2286000"/>
                <a:gd name="textAreaRight" fmla="*/ 2286360 w 2286000"/>
                <a:gd name="textAreaTop" fmla="*/ 0 h 838440"/>
                <a:gd name="textAreaBottom" fmla="*/ 83880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62320" y="21337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038480" y="1981080"/>
            <a:ext cx="2286000" cy="838440"/>
            <a:chOff x="4038480" y="1981080"/>
            <a:chExt cx="2286000" cy="838440"/>
          </a:xfrm>
        </p:grpSpPr>
        <p:sp>
          <p:nvSpPr>
            <p:cNvPr id="142" name=""/>
            <p:cNvSpPr/>
            <p:nvPr/>
          </p:nvSpPr>
          <p:spPr>
            <a:xfrm>
              <a:off x="4038480" y="1981080"/>
              <a:ext cx="2133720" cy="838440"/>
            </a:xfrm>
            <a:custGeom>
              <a:avLst/>
              <a:gdLst>
                <a:gd name="textAreaLeft" fmla="*/ 0 w 2133720"/>
                <a:gd name="textAreaRight" fmla="*/ 2134080 w 2133720"/>
                <a:gd name="textAreaTop" fmla="*/ 0 h 838440"/>
                <a:gd name="textAreaBottom" fmla="*/ 83880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2000" y="21337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6172200" y="1981080"/>
            <a:ext cx="2133720" cy="83844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1981080"/>
            <a:ext cx="8380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1981080"/>
            <a:ext cx="144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057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l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72400" y="1981080"/>
            <a:ext cx="144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72400" y="2819520"/>
            <a:ext cx="8380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7467480" y="3657600"/>
            <a:ext cx="1447920" cy="8380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0800000">
            <a:off x="6248160" y="3962520"/>
            <a:ext cx="2361960" cy="838080"/>
          </a:xfrm>
          <a:custGeom>
            <a:avLst/>
            <a:gdLst>
              <a:gd name="textAreaLeft" fmla="*/ 0 w 2361960"/>
              <a:gd name="textAreaRight" fmla="*/ 2362320 w 236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772400" y="396252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72400" y="3962520"/>
            <a:ext cx="144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772400" y="3962520"/>
            <a:ext cx="8380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53080" y="41148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on (PD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41148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0800000">
            <a:off x="4114440" y="3962520"/>
            <a:ext cx="2438280" cy="83808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2057400" y="3962520"/>
            <a:ext cx="2362320" cy="83808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1485720" y="3543120"/>
            <a:ext cx="1752480" cy="76212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81080" y="3962520"/>
            <a:ext cx="7621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3962520"/>
            <a:ext cx="9144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44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38280" y="41148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191120" y="2971800"/>
            <a:ext cx="175248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701b"/>
                </a:solidFill>
                <a:latin typeface="Times New Roman"/>
              </a:rPr>
              <a:t>Distribution Pac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934320" y="5486400"/>
            <a:ext cx="1752480" cy="766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219320" y="1676520"/>
            <a:ext cx="653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7400" y="1752480"/>
            <a:ext cx="61722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0 Feedback Packets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ory L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tly Asked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 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ture Sh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701b"/>
                </a:solidFill>
                <a:latin typeface="Times New Roman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934320" y="5486400"/>
            <a:ext cx="1752480" cy="766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219320" y="1676520"/>
            <a:ext cx="653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98108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n-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ttery of Items and Open-ended s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Access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eek you are asked to remind particip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given access codes to handle lost  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701b"/>
                </a:solidFill>
                <a:latin typeface="Times New Roman"/>
              </a:rPr>
              <a:t>Consul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934320" y="5486400"/>
            <a:ext cx="1752480" cy="7668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219320" y="1676520"/>
            <a:ext cx="653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1676520"/>
            <a:ext cx="655308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ing the data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What do the numbers and comparisons mean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aling with the information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Am I surprised or does this confirm what I think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ising new question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Why do others view me this way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ing the 360 feedback data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What do I do next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701b"/>
                </a:solidFill>
                <a:latin typeface="Times New Roman"/>
              </a:rPr>
              <a:t>Creation of </a:t>
            </a:r>
            <a:br>
              <a:rPr sz="4400"/>
            </a:br>
            <a:r>
              <a:rPr b="1" lang="en-US" sz="4400" spc="-1" strike="noStrike">
                <a:solidFill>
                  <a:srgbClr val="c5701b"/>
                </a:solidFill>
                <a:latin typeface="Times New Roman"/>
              </a:rPr>
              <a:t>Personal Development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934320" y="5486400"/>
            <a:ext cx="1752480" cy="7668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219320" y="1676520"/>
            <a:ext cx="653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2209680"/>
            <a:ext cx="6096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flect on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t prior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reate action plans and time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nticipate barr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ct on the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701b"/>
                </a:solidFill>
                <a:latin typeface="Times New Roman"/>
              </a:rPr>
              <a:t>Presentation and Re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934320" y="5486400"/>
            <a:ext cx="1752480" cy="766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219320" y="1676520"/>
            <a:ext cx="653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2209680"/>
            <a:ext cx="6095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dentify Best Practices from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resentation of Best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Use data to revise PD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 rot="5400000">
            <a:off x="7467480" y="2286000"/>
            <a:ext cx="1447920" cy="8380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701b"/>
                </a:solidFill>
                <a:latin typeface="Times New Roman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934320" y="5486400"/>
            <a:ext cx="1752480" cy="766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28600" y="1981080"/>
            <a:ext cx="1828800" cy="83844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c570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828800" y="1981080"/>
            <a:ext cx="2286000" cy="838440"/>
            <a:chOff x="1828800" y="1981080"/>
            <a:chExt cx="2286000" cy="838440"/>
          </a:xfrm>
        </p:grpSpPr>
        <p:sp>
          <p:nvSpPr>
            <p:cNvPr id="191" name=""/>
            <p:cNvSpPr/>
            <p:nvPr/>
          </p:nvSpPr>
          <p:spPr>
            <a:xfrm>
              <a:off x="1828800" y="1981080"/>
              <a:ext cx="2286000" cy="838440"/>
            </a:xfrm>
            <a:custGeom>
              <a:avLst/>
              <a:gdLst>
                <a:gd name="textAreaLeft" fmla="*/ 0 w 2286000"/>
                <a:gd name="textAreaRight" fmla="*/ 2286360 w 2286000"/>
                <a:gd name="textAreaTop" fmla="*/ 0 h 838440"/>
                <a:gd name="textAreaBottom" fmla="*/ 83880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62320" y="21337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038480" y="1981080"/>
            <a:ext cx="2286000" cy="838440"/>
            <a:chOff x="4038480" y="1981080"/>
            <a:chExt cx="2286000" cy="838440"/>
          </a:xfrm>
        </p:grpSpPr>
        <p:sp>
          <p:nvSpPr>
            <p:cNvPr id="194" name=""/>
            <p:cNvSpPr/>
            <p:nvPr/>
          </p:nvSpPr>
          <p:spPr>
            <a:xfrm>
              <a:off x="4038480" y="1981080"/>
              <a:ext cx="2133720" cy="838440"/>
            </a:xfrm>
            <a:custGeom>
              <a:avLst/>
              <a:gdLst>
                <a:gd name="textAreaLeft" fmla="*/ 0 w 2133720"/>
                <a:gd name="textAreaRight" fmla="*/ 2134080 w 2133720"/>
                <a:gd name="textAreaTop" fmla="*/ 0 h 838440"/>
                <a:gd name="textAreaBottom" fmla="*/ 83880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72000" y="21337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172200" y="1981080"/>
            <a:ext cx="2133720" cy="83844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72400" y="1981080"/>
            <a:ext cx="8380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72400" y="1981080"/>
            <a:ext cx="144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057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l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72400" y="1981080"/>
            <a:ext cx="144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772400" y="2819520"/>
            <a:ext cx="8380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7467480" y="3657600"/>
            <a:ext cx="1447920" cy="8380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0800000">
            <a:off x="6248160" y="3962520"/>
            <a:ext cx="2361960" cy="838080"/>
          </a:xfrm>
          <a:custGeom>
            <a:avLst/>
            <a:gdLst>
              <a:gd name="textAreaLeft" fmla="*/ 0 w 2361960"/>
              <a:gd name="textAreaRight" fmla="*/ 2362320 w 236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72400" y="396252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772400" y="3962520"/>
            <a:ext cx="144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772400" y="3962520"/>
            <a:ext cx="8380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53080" y="41148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on (PD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43400" y="41148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0800000">
            <a:off x="4114440" y="3962520"/>
            <a:ext cx="2438280" cy="83808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2057400" y="3962520"/>
            <a:ext cx="2362320" cy="83808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16200000">
            <a:off x="1485720" y="3543120"/>
            <a:ext cx="1752480" cy="76212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3962520"/>
            <a:ext cx="7621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28800" y="3962520"/>
            <a:ext cx="9144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3962520"/>
            <a:ext cx="144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38280" y="41148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191120" y="2971800"/>
            <a:ext cx="175248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701b"/>
                </a:solidFill>
                <a:latin typeface="Times New Roman"/>
              </a:rPr>
              <a:t>Organizational Capi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23880" y="21337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apacity of an organization to effectively and efficiently achieve its objectives and move toward fulfilling its vis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934320" y="5486400"/>
            <a:ext cx="182880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701b"/>
                </a:solidFill>
                <a:latin typeface="Times New Roman"/>
              </a:rPr>
              <a:t>Capital Dom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38102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amentally there are three domains of capital that need to be continuously developed to achieve a  high level of 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Organizational Capi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15000" y="1676520"/>
            <a:ext cx="2057400" cy="19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2362320"/>
            <a:ext cx="2057400" cy="19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3048120"/>
            <a:ext cx="20574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934320" y="5486400"/>
            <a:ext cx="1828800" cy="800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800600" y="3124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2438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701b"/>
                </a:solidFill>
                <a:latin typeface="Times New Roman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72200" y="3886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Hu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701b"/>
                </a:solidFill>
                <a:latin typeface="Times New Roman"/>
              </a:rPr>
              <a:t>Building Componen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2362320"/>
            <a:ext cx="38098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components are used to build organizational capi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10080" y="1676520"/>
            <a:ext cx="2057400" cy="19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4800" y="2362320"/>
            <a:ext cx="2057400" cy="19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3048120"/>
            <a:ext cx="20574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934320" y="5486400"/>
            <a:ext cx="1752480" cy="766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495680" y="31240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2438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701b"/>
                </a:solidFill>
                <a:latin typeface="Times New Roman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701b"/>
                </a:solidFill>
                <a:latin typeface="Times New Roman"/>
              </a:rPr>
              <a:t>Leadership Excell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38102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we strive to become better lead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10080" y="1676520"/>
            <a:ext cx="2057400" cy="1981080"/>
          </a:xfrm>
          <a:prstGeom prst="ellipse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2362320"/>
            <a:ext cx="2057400" cy="1981080"/>
          </a:xfrm>
          <a:prstGeom prst="ellipse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86400" y="3048120"/>
            <a:ext cx="2057400" cy="2057400"/>
          </a:xfrm>
          <a:prstGeom prst="ellipse">
            <a:avLst/>
          </a:prstGeom>
          <a:noFill/>
          <a:ln w="85680">
            <a:solidFill>
              <a:srgbClr val="c570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934320" y="5486400"/>
            <a:ext cx="1752480" cy="766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495680" y="31240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In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43600" y="2438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5d7b9"/>
                </a:solidFill>
                <a:latin typeface="Times New Roman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91320" y="38862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701b"/>
                </a:solidFill>
                <a:latin typeface="Times New Roman"/>
              </a:rPr>
              <a:t>Understand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934320" y="5486400"/>
            <a:ext cx="1752480" cy="7668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219320" y="1676520"/>
            <a:ext cx="653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wo Ques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we know about our leadership abilit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others know about our leadership abilit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124080" y="3352680"/>
          <a:ext cx="3200400" cy="152424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2286000" y="4876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701b"/>
                </a:solidFill>
                <a:latin typeface="Times New Roman"/>
              </a:rPr>
              <a:t>Un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172200" y="4876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701b"/>
                </a:solidFill>
                <a:latin typeface="Times New Roman"/>
              </a:rPr>
              <a:t>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5943600"/>
            <a:ext cx="472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Based on the Johari Window of Interpersonal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9718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701b"/>
                </a:solidFill>
                <a:latin typeface="Times New Roman"/>
              </a:rPr>
              <a:t>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2172600" y="3694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50292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971800" y="35809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5105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701b"/>
                </a:solidFill>
                <a:latin typeface="Times New Roman"/>
              </a:rPr>
              <a:t>Known v. Unkn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934320" y="5486400"/>
            <a:ext cx="1752480" cy="76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2438280" y="2133720"/>
          <a:ext cx="4419720" cy="2514600"/>
        </p:xfrm>
        <a:graphic>
          <a:graphicData uri="http://schemas.openxmlformats.org/drawingml/2006/table">
            <a:tbl>
              <a:tblPr/>
              <a:tblGrid>
                <a:gridCol w="2210040"/>
                <a:gridCol w="2209680"/>
              </a:tblGrid>
              <a:tr h="12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Faca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re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Unknow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ind Spo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1523880" y="4648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701b"/>
                </a:solidFill>
                <a:latin typeface="Times New Roman"/>
              </a:rPr>
              <a:t>Un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46483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701b"/>
                </a:solidFill>
                <a:latin typeface="Times New Roman"/>
              </a:rPr>
              <a:t>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5943600"/>
            <a:ext cx="472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Based on the Johari Window of Interpersonal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1752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701b"/>
                </a:solidFill>
                <a:latin typeface="Times New Roman"/>
              </a:rPr>
              <a:t>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1563480" y="3084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4800" y="4876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286000" y="27428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48769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657600" y="1676520"/>
            <a:ext cx="3352680" cy="1981080"/>
          </a:xfrm>
          <a:prstGeom prst="rect">
            <a:avLst/>
          </a:prstGeom>
          <a:solidFill>
            <a:srgbClr val="ccecff">
              <a:alpha val="50000"/>
            </a:srgbClr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701b"/>
                </a:solidFill>
                <a:latin typeface="Times New Roman"/>
              </a:rPr>
              <a:t>Moving Towards Kn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934320" y="5486400"/>
            <a:ext cx="1752480" cy="76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2590920" y="1676520"/>
          <a:ext cx="4419360" cy="2887560"/>
        </p:xfrm>
        <a:graphic>
          <a:graphicData uri="http://schemas.openxmlformats.org/drawingml/2006/table">
            <a:tbl>
              <a:tblPr/>
              <a:tblGrid>
                <a:gridCol w="1066680"/>
                <a:gridCol w="3352680"/>
              </a:tblGrid>
              <a:tr h="197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Fac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ren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Unknow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ind Sp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1523880" y="4648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701b"/>
                </a:solidFill>
                <a:latin typeface="Times New Roman"/>
              </a:rPr>
              <a:t>Un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46483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701b"/>
                </a:solidFill>
                <a:latin typeface="Times New Roman"/>
              </a:rPr>
              <a:t>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5943600"/>
            <a:ext cx="472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Based on the Johari Window of Interpersonal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1752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701b"/>
                </a:solidFill>
                <a:latin typeface="Times New Roman"/>
              </a:rPr>
              <a:t>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1639800" y="3084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4724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352680" y="2895480"/>
            <a:ext cx="1295640" cy="106704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9215000">
            <a:off x="2972160" y="289476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5701b"/>
                </a:solidFill>
                <a:latin typeface="Times New Roman"/>
              </a:rPr>
              <a:t>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701b"/>
                </a:solidFill>
                <a:latin typeface="Times New Roman"/>
              </a:rPr>
              <a:t>Assess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934320" y="5486400"/>
            <a:ext cx="1752480" cy="766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19320" y="1676520"/>
            <a:ext cx="653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90720" y="2666880"/>
            <a:ext cx="2971800" cy="13003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95680" y="1828800"/>
            <a:ext cx="38102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d behavi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nym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to admini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 for your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-rater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3T14:55:04Z</dcterms:created>
  <dc:creator>ngl</dc:creator>
  <dc:description/>
  <dc:language>en-US</dc:language>
  <cp:lastModifiedBy>mgonzalez</cp:lastModifiedBy>
  <dcterms:modified xsi:type="dcterms:W3CDTF">2007-06-27T14:08:15Z</dcterms:modified>
  <cp:revision>20</cp:revision>
  <dc:subject/>
  <dc:title>PowerPoint Presentation</dc:title>
</cp:coreProperties>
</file>